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307-DCA6-487A-AED7-067515E8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F60-C5D1-4746-8C98-2608DAA1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526-383D-40D0-B58A-0D65D8E3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67C-2C0C-41BC-B401-54BF5B11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0036-DC16-41B5-ABDD-8C142A15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D944-25F5-4D66-9B6D-C2A10AF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E831-276E-4745-8937-3A289951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41A-1A5C-4AC8-AA19-1A2A7F0C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68DC-3E13-4C8C-8273-ECD786F0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647A-D71D-4077-B4E7-6E20649D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A230-23E5-4B6E-9CE9-FAF94924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A0E-94A1-43A8-BE86-5FE5007C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5970-A002-443F-A0CF-85283EE0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660B-4F51-4034-8020-725091AB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5D3-9D3A-4444-8E75-60012D77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B7C8-84D1-46F8-85B8-5CF21181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F633-C87E-4F48-B527-80205ED5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AB0-5B5F-4699-88FB-51038E24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459-55AB-4E71-B259-00990A5F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88B-04D0-45D9-B7E1-F5E68DF6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446-E79A-4E8C-A746-8C9C43E7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DD1-CB4C-41C3-961B-1AA57142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720-4FE5-4ED9-B4CF-9A865F85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C6A-AB90-48BC-97B2-30922334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16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1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E96-283B-4426-BAE4-3906A5860D0A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561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5614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454B-A95C-4898-AF13-7C5A644CC16F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916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16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16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porfolio/elements/The%20Little%20Flame%20Dancer.x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porfolio/elements/Hollow.xml" TargetMode="External"/><Relationship Id="rId3" Type="http://schemas.openxmlformats.org/officeDocument/2006/relationships/hyperlink" Target="file:///porfolio/elements/Hollow.x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porfolio/elements/Lover%20Letter.x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porfolio/elements/Icicles.xml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/porfolio/elements/The%20Little%20Flame%20Dancer%20by%20Monika%20Balfanz.x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porfolio/elements/Hatter%20Mad.x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../AppData/Local/Microsoft/Windows/Temporary%20Internet%20Files/Low/Content.IE5/Y7JEXXKA/porfolio/Baby%20Jaguar.doc" TargetMode="External"/><Relationship Id="rId3" Type="http://schemas.openxmlformats.org/officeDocument/2006/relationships/hyperlink" Target="file:///../AppData/Local/Microsoft/Windows/Temporary%20Internet%20Files/Low/Content.IE5/Y7JEXXKA/porfolio/Baby%20Jaguar.doc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porfolio/elements/Dear%20Friend.x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My portfol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By Monika Balfanz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he Tango Dance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Tango Dancer;  This piece is an example of a sest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rimson Hate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imson hate;  This piece is an example of a sonne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4114800" cy="38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Unlabeled Piece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e Civil War dialogu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civil war; a dialogue.  We were asked to listen to other conversations and write a dialogue of what we hear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3438360" cy="33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Courting Death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rting Death;  This piece is an example of a memoir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92680" y="2362320"/>
            <a:ext cx="2755800" cy="40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Gama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ama( not done); This is a pre-write up piece in which I was working on a memoir for my grandmother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352680" y="316224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The Interview of Trembuh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interview;  We had to take one of our characters that we had created and place them in an interviewing situa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462888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Daddy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ddy;  This was an inprov piece in which we had to describe one memory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24080" y="2736720"/>
            <a:ext cx="3857760" cy="36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torie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e Little Flame Dancer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The Little Flame Dancer( prose);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For this piece we had to take a poetry piece that we had written and morph it into a prose for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Hollow’s Forest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Hollow’s Forest;</a:t>
            </a: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3"/>
              </a:rPr>
              <a:t>  </a:t>
            </a: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This is an example of a short story.  My piece is a twist on the classical Alice in Wonderland story.  This piece is part one and part tw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Lover Lette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Lover Letter;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This is an example of a short short story.  We had to come up with a town legend and write a story about 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Poem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Icicle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 baseline="-2000">
                <a:solidFill>
                  <a:srgbClr val="637d95"/>
                </a:solidFill>
                <a:uFillTx/>
                <a:latin typeface="Arial"/>
                <a:hlinkClick r:id="rId2"/>
              </a:rPr>
              <a:t>Icicles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;  For this piece I just wanted to practice using personificat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ff33"/>
                </a:solidFill>
                <a:latin typeface="Arial"/>
              </a:rPr>
              <a:t>The Little Flame Dance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The Little Flame Dancer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"/>
              </a:rPr>
              <a:t>;  This is my major poetry piece.  We worked on our poetry to practice edit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3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Hatter Ma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Hatter mad; 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r this piece we practices compound word inversion for effec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Baby Jaguar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2"/>
              </a:rPr>
              <a:t>Baby </a:t>
            </a: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3"/>
              </a:rPr>
              <a:t>Jaguar</a:t>
            </a:r>
            <a:r>
              <a:rPr b="0" lang="en-US" sz="3200" spc="-1" strike="noStrike" u="sng">
                <a:solidFill>
                  <a:srgbClr val="ff5353"/>
                </a:solidFill>
                <a:uFillTx/>
                <a:latin typeface="Arial"/>
              </a:rPr>
              <a:t>;  We were instructed to write a poem comparing ourselves to anima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0b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Dear Friend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16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37d95"/>
                </a:solidFill>
                <a:uFillTx/>
                <a:latin typeface="Arial"/>
                <a:hlinkClick r:id="rId1"/>
              </a:rPr>
              <a:t>Dear Friend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;  This was a practice in beats in poetry.  This piece is a dimeter with a hanging foo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05320" y="3124080"/>
            <a:ext cx="3752640" cy="31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1:04:35Z</dcterms:created>
  <dc:creator>Roni</dc:creator>
  <dc:description/>
  <dc:language>en-US</dc:language>
  <cp:lastModifiedBy>Roni</cp:lastModifiedBy>
  <dcterms:modified xsi:type="dcterms:W3CDTF">2008-06-09T22:21:33Z</dcterms:modified>
  <cp:revision>2</cp:revision>
  <dc:subject/>
  <dc:title> My portfolio</dc:title>
</cp:coreProperties>
</file>